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7.wmf" ContentType="image/x-wmf"/>
  <Override PartName="/ppt/media/wind.wav" ContentType="audio/x-wav"/>
  <Override PartName="/ppt/media/image9.wmf" ContentType="image/x-wmf"/>
  <Override PartName="/ppt/media/image16.wmf" ContentType="image/x-wmf"/>
  <Override PartName="/ppt/media/voltage.wav" ContentType="audio/x-wav"/>
  <Override PartName="/ppt/media/image7.jpeg" ContentType="image/jpeg"/>
  <Override PartName="/ppt/media/laser.wav" ContentType="audio/x-wav"/>
  <Override PartName="/ppt/media/cashreg.wav" ContentType="audio/x-wav"/>
  <Override PartName="/ppt/media/image10.gif" ContentType="image/gif"/>
  <Override PartName="/ppt/media/image8.wmf" ContentType="image/x-wmf"/>
  <Override PartName="/ppt/media/camera.wav" ContentType="audio/x-wav"/>
  <Override PartName="/ppt/media/breeze.wav" ContentType="audio/x-wav"/>
  <Override PartName="/ppt/media/type.wav" ContentType="audio/x-wav"/>
  <Override PartName="/ppt/media/image6.jpeg" ContentType="image/jpeg"/>
  <Override PartName="/ppt/media/whoosh.wav" ContentType="audio/x-wav"/>
  <Override PartName="/ppt/media/image5.png" ContentType="image/png"/>
  <Override PartName="/ppt/media/image19.jpeg" ContentType="image/jpeg"/>
  <Override PartName="/ppt/media/suction.wav" ContentType="audio/x-wav"/>
  <Override PartName="/ppt/media/image3.png" ContentType="image/png"/>
  <Override PartName="/ppt/media/image11.wmf" ContentType="image/x-wmf"/>
  <Override PartName="/ppt/media/image18.wmf" ContentType="image/x-wmf"/>
  <Override PartName="/ppt/media/image2.jpeg" ContentType="image/jpeg"/>
  <Override PartName="/ppt/media/push.wav" ContentType="audio/x-wav"/>
  <Override PartName="/ppt/media/image4.wmf" ContentType="image/x-wmf"/>
  <Override PartName="/ppt/media/click.wav" ContentType="audio/x-wav"/>
  <Override PartName="/ppt/media/image1.jpeg" ContentType="image/jpeg"/>
  <Override PartName="/ppt/media/image13.jpeg" ContentType="image/jpeg"/>
  <Override PartName="/ppt/media/image12.png" ContentType="image/png"/>
  <Override PartName="/ppt/media/drumroll.wav" ContentType="audio/x-wav"/>
  <Override PartName="/ppt/media/image14.wmf" ContentType="image/x-wmf"/>
  <Override PartName="/ppt/media/image15.jpeg" ContentType="image/jpeg"/>
  <Override PartName="/ppt/media/arrow.wav" ContentType="audio/x-wav"/>
  <Override PartName="/ppt/media/bomb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66E-4FE8-41E1-9575-875295C7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8E92-8132-4E15-B503-90486BCE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3D0-2E24-4534-A3C8-85FC0AB4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160-13DF-4FDB-8BB4-748D465A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6011-A810-4719-9BD0-94B652CE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5E27-D330-48D9-9A05-AC521754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19AD-4E9C-4EC7-82E3-713AB595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1022-5626-4399-8774-56F16B21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747A-BFFB-4E5A-815D-7B27A87A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CD87-3716-4912-86BE-5F5B7FC7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FA17-4F2F-4E47-8AE0-EE9A05F6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A70-9C41-4ED9-8C35-CA229B3A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E881-483F-4E85-AB8A-50606B76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628D-3109-4393-B0D2-03B5EEDD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B422-336D-4C4D-B331-412F773B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3166-C33F-4E58-AF26-85CEDE8D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EF1F-B289-4E2C-94A8-000E117F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74EA-D64E-44CE-A888-06809CA4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31F9-60C1-4B65-9C92-EF7291BD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277-FB18-4C04-9FD0-8B856B59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B329-2991-43D9-B65A-67CF5F4D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473-BD31-447A-80C7-A71E3061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D82E-83FD-4765-9780-34D5FE4B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6DC-D729-442A-8704-F68812D3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7D57-7FB7-4CD8-81F7-15FAD5D5F000}" type="slidenum"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A4A4-695A-45D5-B171-054A4935FB0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78f4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78f4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78f4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MSj03884630000%5B1%5D.wav" TargetMode="External"/><Relationship Id="rId3" Type="http://schemas.microsoft.com/office/2007/relationships/media" Target="file:///tmp/home/.config/libreoffice/4/user/gallery/MSj03884630000%5B1%5D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file:///tmp/home/.config/libreoffice/4/user/gallery/MSBD19014_0000%5B1%5D.wav" TargetMode="External"/><Relationship Id="rId3" Type="http://schemas.microsoft.com/office/2007/relationships/media" Target="file:///tmp/home/.config/libreoffice/4/user/gallery/MSBD19014_0000%5B1%5D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file:///tmp/home/.config/libreoffice/4/user/gallery/MSSN00771A0000%5B1%5D.wav" TargetMode="External"/><Relationship Id="rId3" Type="http://schemas.microsoft.com/office/2007/relationships/media" Target="file:///tmp/home/.config/libreoffice/4/user/gallery/MSSN00771A0000%5B1%5D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file:///tmp/home/.config/libreoffice/4/user/gallery/MSBD18826_0000%5B1%5D.wav" TargetMode="External"/><Relationship Id="rId3" Type="http://schemas.microsoft.com/office/2007/relationships/media" Target="file:///tmp/home/.config/libreoffice/4/user/gallery/MSBD18826_0000%5B1%5D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file:///tmp/home/.config/libreoffice/4/user/gallery/Windows%20XP%20Pop-up%20Blocked.wav" TargetMode="External"/><Relationship Id="rId3" Type="http://schemas.microsoft.com/office/2007/relationships/media" Target="file:///tmp/home/.config/libreoffice/4/user/gallery/Windows%20XP%20Pop-up%20Blocked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file:///tmp/home/.config/libreoffice/4/user/gallery/j0074799.wav" TargetMode="External"/><Relationship Id="rId3" Type="http://schemas.microsoft.com/office/2007/relationships/media" Target="file:///tmp/home/.config/libreoffice/4/user/gallery/j0074799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MSSN00542A0000%5B1%5D.wav" TargetMode="External"/><Relationship Id="rId3" Type="http://schemas.microsoft.com/office/2007/relationships/media" Target="file:///tmp/home/.config/libreoffice/4/user/gallery/MSSN00542A0000%5B1%5D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file:///tmp/home/.config/libreoffice/4/user/gallery/MSSN00831A0000%5B1%5D.wav" TargetMode="External"/><Relationship Id="rId3" Type="http://schemas.microsoft.com/office/2007/relationships/media" Target="file:///tmp/home/.config/libreoffice/4/user/gallery/MSSN00831A0000%5B1%5D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file:///tmp/home/.config/libreoffice/4/user/gallery/breeze.wav" TargetMode="External"/><Relationship Id="rId3" Type="http://schemas.microsoft.com/office/2007/relationships/media" Target="file:///tmp/home/.config/libreoffice/4/user/gallery/breeze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Turtle’s Race with Beav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Amazing Words and Vocabular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260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conflict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struggle or fight, especially one that goes on for a long time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4181760" cy="3549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458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  <p:sndAc>
      <p:stSnd>
        <p:snd r:embed="rId3" name="click.wav"/>
      </p:stSnd>
    </p:sndAc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31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inhabit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live in a place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381480" y="2571840"/>
            <a:ext cx="3400200" cy="3524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drumroll.wav"/>
      </p:stSnd>
    </p:sndAc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resolve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make a decision ; to solve or fix a problem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90920" y="2693880"/>
            <a:ext cx="441936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  <p:sndAc>
      <p:stSnd>
        <p:snd r:embed="rId2" name="cashreg.wav"/>
      </p:stSnd>
    </p:sndAc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coax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gently talk someone into doing something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9880" y="2666880"/>
            <a:ext cx="2686320" cy="403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5" name="bomb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3629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9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ramp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slope or slant that connects two different levels. 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09680" y="3274920"/>
            <a:ext cx="6400800" cy="2676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5" name="wind.wav"/>
      </p:stSnd>
    </p:sndAc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67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3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startle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surprise and shock very suddenly. 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6259680" cy="3531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5" name="push.wav"/>
      </p:stSnd>
    </p:sndAc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809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7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serape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shawl or blanket that people can wear over their shirts; worn in Latin America with bright colors and stripes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3200400" cy="3111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43000" y="4419720"/>
            <a:ext cx="281952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5" name="whoosh.wav"/>
      </p:stSnd>
    </p:sndAc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10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3554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2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vacation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time away from school or your usual duties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5" name="suction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300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54919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6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Vocabulary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challenged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lodge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dam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buried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embarrassed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halfway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voltage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78f48"/>
                </a:solidFill>
                <a:latin typeface="Trebuchet MS"/>
              </a:rPr>
              <a:t>challenged (challenge)</a:t>
            </a:r>
            <a:endParaRPr b="0" lang="en-US" sz="5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call or invite someone to a game or contest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3211560" cy="3254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u"/>
    <p:sndAc>
      <p:stSnd>
        <p:snd r:embed="rId5" name="laser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17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2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lodge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den of an animal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7010280" cy="357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68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68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359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6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dam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wall built to hold back the water of a creek, lake, or river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477120" cy="3411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camera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buried (bury)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hide or cover something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4791240" cy="3148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60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813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3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78f48"/>
                </a:solidFill>
                <a:latin typeface="Trebuchet MS"/>
              </a:rPr>
              <a:t>embarrassed (embarrass)</a:t>
            </a:r>
            <a:endParaRPr b="0" lang="en-US" sz="4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feel that people are thinking of you badly because of something you said or did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3178080" cy="3016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breeze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halfway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be in the middle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276720"/>
            <a:ext cx="1295280" cy="1828800"/>
          </a:xfrm>
          <a:prstGeom prst="ellipse">
            <a:avLst/>
          </a:pr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3276720"/>
            <a:ext cx="1295280" cy="1828800"/>
          </a:xfrm>
          <a:prstGeom prst="ellipse">
            <a:avLst/>
          </a:pr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2654280" cy="3247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532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5" name="arrow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786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2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Amazing Words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conflict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inhabit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resolve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coax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91040" y="1600200"/>
            <a:ext cx="369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ramp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startle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serape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vacation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1" name="cashreg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0:16:20Z</dcterms:created>
  <dc:creator> </dc:creator>
  <dc:description/>
  <cp:keywords/>
  <dc:language>en-US</dc:language>
  <cp:lastModifiedBy> </cp:lastModifiedBy>
  <dcterms:modified xsi:type="dcterms:W3CDTF">2007-10-16T01:48:59Z</dcterms:modified>
  <cp:revision>2</cp:revision>
  <dc:subject/>
  <dc:title>Turtle’s Race with Beaver Amazing Words and Vocabul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33</vt:lpwstr>
  </property>
</Properties>
</file>